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BD16-5682-43F5-8B02-348E85D9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B78-93F8-4D6E-8F0D-CA5C844C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AA8-1155-465A-91CC-77CD9733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53F-2D9A-40AB-9955-F561F393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CDC-BBBA-469B-A69D-8767849E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048-6B9D-4DCE-8646-515971F9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46C-BA66-4961-A4CE-0110130E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577-E666-459F-BF17-D5C54544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50F-187C-4043-9FE3-53EC4A2B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547-3B4E-4FB8-9846-B15116C4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D3E-4331-46C9-BE6B-E43039ED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309-B31B-450A-822D-43CC13E1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A924-1DC9-4390-8F19-799E0E3B8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:  Cell Structure &amp; Fun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cture #1 Life is Cellular &amp; Common Features of cel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took scientists 150 years to fully appreci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discoveries of Hooke and Leeuwenhoek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two minutes to summarize what you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ed about the history of cell discovery 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 as the importance of cell biology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with your shoulder partner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understand well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little confusing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Cell -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smallest unit that can perform all the life processes.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Tahoma"/>
              </a:rPr>
              <a:t>It is the basic structural, functional, and developmental unit of lif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Tahoma"/>
              </a:rPr>
              <a:t>There are different types of cells within an organism due to the fact that they are specialized for specific function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Tahoma"/>
              </a:rPr>
              <a:t>Example -  We have about 250 different types of cells in our body; such as  blood cells, muscle cells, epithelial (skin) cells, etc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7" descr="types of cells.gif"/>
          <p:cNvPicPr/>
          <p:nvPr/>
        </p:nvPicPr>
        <p:blipFill>
          <a:blip r:embed="rId1"/>
          <a:stretch/>
        </p:blipFill>
        <p:spPr>
          <a:xfrm>
            <a:off x="1620720" y="1600200"/>
            <a:ext cx="5902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Cell Theo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Work contributions from other scientis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eventually led to the Cell Theory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The theory stat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1)  All living things are made of one or more cel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2)  Cells are the basic units of structure and function in organism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3)  All cells arise from preexisting cells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Siz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ll cells need to take in substances such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utrients, ions &amp; oxygen  &amp; they ne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move waste that builds up within the cell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 only way in or out is for substances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ass  through the cells surface (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embrane).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:  Cells are SMALL.  Why is th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mportant?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mall cells exchange substances must more rapidly because substances do not need to travel as far to reach the center of a smaller cell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mall cells have a surface-area to volume ratio that is HIGHER than large cell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is is why it is better for us to have so many tiny cells instead of a few large 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ells fall into two broad categories, depending on whether they contain a nucle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nucleus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s a large membrane-enclosed structure that contains the cell’s genetic material in the form of D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unction-  the nucleus controls many of the cell’s activit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Arial"/>
                <a:ea typeface="ＭＳ Ｐゴシック"/>
              </a:rPr>
              <a:t>Prokaryotes and Eukary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karyot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cells that enclose their DNA in nuclei.  * Plural for nucle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karyot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cells that do not enclose DNA in nucle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E:\LESSON OVRVW batch 2\art\BIO10NAE_03_07_02_005_LRIM_05.png"/>
          <p:cNvPicPr/>
          <p:nvPr/>
        </p:nvPicPr>
        <p:blipFill>
          <a:blip r:embed="rId1"/>
          <a:stretch/>
        </p:blipFill>
        <p:spPr>
          <a:xfrm>
            <a:off x="0" y="3962520"/>
            <a:ext cx="9142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karyotic Ce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okaryotic cells are generally smaller and simpler than eukaryotic ce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cause they are such simple cells, they cannot carry out many specialized fun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4" descr="prokaryotic cell structure.jpg"/>
          <p:cNvPicPr/>
          <p:nvPr/>
        </p:nvPicPr>
        <p:blipFill>
          <a:blip r:embed="rId1"/>
          <a:stretch/>
        </p:blipFill>
        <p:spPr>
          <a:xfrm>
            <a:off x="4692600" y="1600200"/>
            <a:ext cx="3949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Cells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ll Critical processes which take place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iving organisms take place in cell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 the huma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d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, cells are responsible for 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ings including sight, hearing, smell, memor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in and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 order to understand how living things per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ife’s activities, it is essential to understand 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cell function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rokaryotes were the first life form on eart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y lived at least 3.5 billion years ago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or nearly 2 billion years, prokaryotes were the only organisms on Earth!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ingle celled organisms.  The organisms we call bacteria are modern day prokary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ukaryo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karyotic cells are generally larger and more complex than prokaryotic ce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eukaryotic cells contain dozens of structures and internal membranes. Many eukaryotes are highly specializ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are many types of eukaryotes: plants, animals, fungi, and organisms commonly called “protists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04-05A-AnimalCell-L.jpg"/>
          <p:cNvPicPr/>
          <p:nvPr/>
        </p:nvPicPr>
        <p:blipFill>
          <a:blip r:embed="rId1"/>
          <a:stretch/>
        </p:blipFill>
        <p:spPr>
          <a:xfrm>
            <a:off x="1406520" y="1295280"/>
            <a:ext cx="67564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what you have learned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istory of cell discovery, the importance of cell biology, and two categories of cells as well as their characterist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your answer on the discussion board. Respond to two of your pe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09480" y="1523880"/>
          <a:ext cx="7925040" cy="4038840"/>
        </p:xfrm>
        <a:graphic>
          <a:graphicData uri="http://schemas.openxmlformats.org/drawingml/2006/table">
            <a:tbl>
              <a:tblPr/>
              <a:tblGrid>
                <a:gridCol w="1382760"/>
                <a:gridCol w="1013040"/>
                <a:gridCol w="1198440"/>
                <a:gridCol w="1655640"/>
                <a:gridCol w="1354320"/>
                <a:gridCol w="132084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de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de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de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de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de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9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Question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w did we first learn about cells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icroscop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Microscop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 was not until the mid-1600s that scientists began to use microscopes to observe living thing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obert Hooke (1665) was n English scientist who used a crude microscope to look at a nonliving thin slice of cork, a plant mater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nder the microscope, cork seemed to be made of thousands of tiny, empty chambers that Hooke called “cells”. The term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el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s used in biology to this da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day we know that living cells are not empty chambers, but contain a huge array of working parts, each with its own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k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cork cells II.jpg"/>
          <p:cNvPicPr/>
          <p:nvPr/>
        </p:nvPicPr>
        <p:blipFill>
          <a:blip r:embed="rId1"/>
          <a:stretch/>
        </p:blipFill>
        <p:spPr>
          <a:xfrm>
            <a:off x="838080" y="1584360"/>
            <a:ext cx="70866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ton van Leeuwenhoek -  167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utch scientist who used a microscope to view living organisms found in pond water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e know now that these are actually single celled organism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4" descr="from Leeuwenhoek's drawings.jpg"/>
          <p:cNvPicPr/>
          <p:nvPr/>
        </p:nvPicPr>
        <p:blipFill>
          <a:blip r:embed="rId1"/>
          <a:stretch/>
        </p:blipFill>
        <p:spPr>
          <a:xfrm>
            <a:off x="4398840" y="1295280"/>
            <a:ext cx="4403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 also looked at a sample taken from a human mout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 drew the organisms he saw in the mouth—which today we call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C:\Users\Alex\Desktop\Batch 2.2\missing images\BIO10NAE_03_07_02_005_LRIM_02.png"/>
          <p:cNvPicPr/>
          <p:nvPr/>
        </p:nvPicPr>
        <p:blipFill>
          <a:blip r:embed="rId1"/>
          <a:stretch/>
        </p:blipFill>
        <p:spPr>
          <a:xfrm>
            <a:off x="4889520" y="1798560"/>
            <a:ext cx="35560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7:02:04Z</dcterms:created>
  <dc:creator>joconnor</dc:creator>
  <dc:description/>
  <dc:language>en-US</dc:language>
  <cp:lastModifiedBy>Davis Carmen</cp:lastModifiedBy>
  <dcterms:modified xsi:type="dcterms:W3CDTF">2014-04-04T17:37:25Z</dcterms:modified>
  <cp:revision>10</cp:revision>
  <dc:subject/>
  <dc:title>Unit:  Cell Structure &amp; Function</dc:title>
</cp:coreProperties>
</file>